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24D-FED4-4C2D-9C57-D0D6FE6F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74C-62E7-46CE-910B-12B18CEA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BBA-0BE5-4DA6-A033-93A824C0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AC6-A933-4F3C-AD1D-F1A1876F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461-8F54-4DA0-92D9-9BCE95B1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B9B-B690-4C12-81E6-DC3D3F12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F4B-094A-4641-BB98-1BB8B198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293-ABCD-4764-AFD0-84C9ED26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67A-AC8F-4A0E-A1A5-35EF11FF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6AB-82FF-42D1-8040-1505DD1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C59-AEAA-455F-AB3D-D3248A1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290-3B16-4A21-8275-EDF38F0F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C532B-D7A6-4798-8143-ABC4B616D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lmEigVmH9s" TargetMode="External"/><Relationship Id="rId2" Type="http://schemas.openxmlformats.org/officeDocument/2006/relationships/hyperlink" Target="https://www.youtube.com/watch?v=OlmEigVmH9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los Sl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ree day work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=OlmEigVmH9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2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two main factors that will lead to a change in the way we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should have time _______ and not just at _______ when you 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trade of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people do with the extra free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ther benefits may come of this propos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08:16:51Z</dcterms:created>
  <dc:creator>Paul Filippetto</dc:creator>
  <dc:description/>
  <dc:language>en-US</dc:language>
  <cp:lastModifiedBy>Paul Filippetto</cp:lastModifiedBy>
  <dcterms:modified xsi:type="dcterms:W3CDTF">2014-10-31T08:27:01Z</dcterms:modified>
  <cp:revision>2</cp:revision>
  <dc:subject/>
  <dc:title>Carlos Slim</dc:title>
</cp:coreProperties>
</file>